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E58A-60CF-45CE-B0F2-B7D81039739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CD83-1F92-45E4-AEED-D709BD4DF980}" type="slidenum">
              <a:rPr b="0" lang="es-E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0FB9-9AE3-4A29-BD9C-C154795EE36C}" type="slidenum">
              <a:rPr b="0" lang="es-E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CB80-D677-4271-8C52-A6AABAAAC28E}" type="slidenum">
              <a:rPr b="0" lang="es-E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1F5E-78C6-4E1D-B529-4DF5524C4D87}" type="slidenum">
              <a:rPr b="0" lang="es-E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E361-4986-4D82-9295-B1DF97AF379A}" type="slidenum">
              <a:rPr b="0" lang="es-E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0453-06BF-4CB4-9E2C-E9EF513D3E26}" type="slidenum">
              <a:rPr b="0" lang="es-E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7190-409F-41CB-893A-3AB854429026}" type="slidenum">
              <a:rPr b="0" lang="es-E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1AA4-0CFE-41E7-A076-6E57E72B7F11}" type="slidenum">
              <a:rPr b="0" lang="es-E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6E45-96B5-4B29-B910-0E25F9F9A54B}" type="slidenum">
              <a:rPr b="0" lang="es-E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F1AC-D02B-4FE5-B1A0-0D1289780EF2}" type="slidenum">
              <a:rPr b="0" lang="es-E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B61E-8122-4E5C-B26F-2093AFFCA2B7}" type="slidenum">
              <a:rPr b="0" lang="es-E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4DB8-0608-411C-B2C5-0DF55A87BAD0}" type="slidenum">
              <a:rPr b="0" lang="es-E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D11C9-F6B6-4E75-8724-D0E3E2931C09}" type="slidenum">
              <a:rPr b="0" lang="es-E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DE22-7993-4E8F-9FDA-CA3EE81FB7E1}" type="slidenum">
              <a:rPr b="0" lang="es-E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C1460-4217-40F4-9A3B-531A9AE1B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6290A-D3A8-4F4F-ABD6-DF343633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3AADD-771F-4831-A983-69A9364CC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EFF69-F29F-42DF-80EA-F5D509FCF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E0CE-FE97-4C65-9AE6-901FA194F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CC56-6008-4E00-BBAC-B697D53C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C534C-2193-4774-8220-4ED6D2F6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587E-BE29-46CF-B912-44BA4B1F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5EB8-379D-470C-AB60-CE98EE20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B866-C9CA-4E24-A00B-6B19FFDE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679F4-A24B-419D-BBE3-FEE12692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546AB-F860-4914-AF55-15A5FEA8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60F53-E0FF-49BD-BA9D-963B1E02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213D-BB1D-429A-8231-1FA2D611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37ED-009E-4D7A-82D8-90D5284E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B66A-A963-467F-A8D8-2B175E3FC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EC64-E185-4C88-87D8-EE38176F9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5C407-A2A2-408E-89ED-25E90A5E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4B155-B78D-4307-9CE1-8C675419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0A760-F110-44D8-9697-7816C1EE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8B3C3-76EB-4AA2-A5D4-C11E6B3D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60DE7-0991-4B86-8B55-1534EF66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6ADB6-4348-487F-B2B4-3672F048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826B5-0637-4ECD-AB9B-7DEAC9A5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CBD5-CA52-4944-AB2F-BCF52394A542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3747-CF06-4D91-9D01-332A03BB1BC6}" type="slidenum">
              <a:rPr b="0" lang="es-E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eading.org/" TargetMode="External"/><Relationship Id="rId3" Type="http://schemas.openxmlformats.org/officeDocument/2006/relationships/hyperlink" Target="http://www.asociacionaele.org/" TargetMode="External"/><Relationship Id="rId4" Type="http://schemas.openxmlformats.org/officeDocument/2006/relationships/hyperlink" Target="http://www.asociacionaele.org/" TargetMode="External"/><Relationship Id="rId5" Type="http://schemas.openxmlformats.org/officeDocument/2006/relationships/hyperlink" Target="http://www.asociacionaele.org/" TargetMode="External"/><Relationship Id="rId6" Type="http://schemas.openxmlformats.org/officeDocument/2006/relationships/hyperlink" Target="mailto:aele@asociacionaele.org" TargetMode="External"/><Relationship Id="rId7" Type="http://schemas.openxmlformats.org/officeDocument/2006/relationships/hyperlink" Target="mailto:aele@asociacionaele.org" TargetMode="External"/><Relationship Id="rId8" Type="http://schemas.openxmlformats.org/officeDocument/2006/relationships/hyperlink" Target="mailto:aele@asociacionaele.org" TargetMode="Externa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584360" cy="10368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2771640" y="5084640"/>
            <a:ext cx="619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CREATIVIDAD E INNOVACIÓN: RETOS DE FUTURO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SEMINARIO INTERNACION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CONSEJO DE EUROPA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San Sebastián – 4 al 8 mayo 2009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2195640" y="1989000"/>
            <a:ext cx="6948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ESA REDONDA: LA INNOVACIÓN EN LA COMPETENCIA EN COMUNICACIÓN LINGÜÍSTICA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3348000" y="3068640"/>
            <a:ext cx="5616720" cy="9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stela D´Angelo Menéndez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sociación Española de Lectura y Escritura – AEL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niversidad Complutense de Madrid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617040"/>
            <a:ext cx="8186760" cy="173988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r tanto, la AELE decide unirse a las acciones  socio-pedagógicas de su tiempo desarrollando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ROGRAMA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que asuman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RINCIPIOS INNOVADORES, entre ellos…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341440"/>
            <a:ext cx="8229600" cy="9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 algn="just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el incremento de las prácticas del lenguaje en la dinámica del contexto escolar, fundamentalmente, las de escritura;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468360" y="3571920"/>
            <a:ext cx="8229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Calibri"/>
              </a:rPr>
              <a:t>el desarrollo de comunidades de lectores y de escritores en el contexto escolar, y en interacción con otras instituciones socio-educativa-culturales; y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68360" y="508464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Calibri"/>
              </a:rPr>
              <a:t>el abordaje de los contenidos lingüísticos sobre la base de una enriquecida experiencia en el uso social del  lenguaje.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PROGRAMAS QUE DESARROLLA LA AELE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PROGRAMA MARCO:</a:t>
            </a: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Red de Ciudades y Pueblos Lectores y Escritores – Red CPLE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2667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marL="2667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PROGRAMAS EDUCATIVO-CULTURALES QUE OFRECE A LA COMUNIDAD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66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- 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Exposición de poemas fotografiados </a:t>
            </a:r>
            <a:r>
              <a:rPr b="1" i="1" lang="es-ES" sz="2000" spc="-1" strike="noStrike">
                <a:solidFill>
                  <a:srgbClr val="003300"/>
                </a:solidFill>
                <a:latin typeface="Arial"/>
              </a:rPr>
              <a:t>“Un poema, una </a:t>
            </a:r>
            <a:r>
              <a:rPr b="1" i="1" lang="es-E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003300"/>
                </a:solidFill>
                <a:latin typeface="Arial"/>
              </a:rPr>
              <a:t>imagen y tu mirada”</a:t>
            </a:r>
            <a:r>
              <a:rPr b="1" lang="es-ES" sz="2000" spc="-1" strike="noStrike">
                <a:solidFill>
                  <a:srgbClr val="0033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266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- 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Exposición Iberoamericana de poemas fotografiados </a:t>
            </a:r>
            <a:r>
              <a:rPr b="1" i="1" lang="es-ES" sz="2000" spc="-1" strike="noStrike">
                <a:solidFill>
                  <a:srgbClr val="003300"/>
                </a:solidFill>
                <a:latin typeface="Arial"/>
              </a:rPr>
              <a:t>“Con </a:t>
            </a:r>
            <a:r>
              <a:rPr b="1" i="1" lang="es-E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003300"/>
                </a:solidFill>
                <a:latin typeface="Arial"/>
              </a:rPr>
              <a:t>ojos y voz de mujer”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266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- Campaña audiovisual por el acercamiento al mundo de la 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lectura y la escritura </a:t>
            </a:r>
            <a:r>
              <a:rPr b="1" i="1" lang="es-ES" sz="2000" spc="-1" strike="noStrike">
                <a:solidFill>
                  <a:srgbClr val="003300"/>
                </a:solidFill>
                <a:latin typeface="Arial"/>
              </a:rPr>
              <a:t>“Si no leer, no pasa nada…¡Deja </a:t>
            </a:r>
            <a:r>
              <a:rPr b="1" i="1" lang="es-E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003300"/>
                </a:solidFill>
                <a:latin typeface="Arial"/>
              </a:rPr>
              <a:t>que te pasen cosas!”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44360" y="1412640"/>
            <a:ext cx="874872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PROGRAMAS EDUCATIVO-CULTURALES QUE OFRECE A LA COMUNIDAD (continuación)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- Organización de prácticas de escritura y lectura destinadas a la 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población infantil y juvenil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- Acompañamiento específico a los proyectos de la Red 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CPLE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- Página web dedicada a los niños (www.dioperico.com)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ROGRAMAS QUE DESARROLLA LA AEL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144360" y="4149720"/>
            <a:ext cx="860436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PROGRAMAS DE FORMACIÓN PROFESIONAL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-   Formación permanente de los profesionales de la educación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-   Formación de mediadores culturales para la lectura y la 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escritura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-   Participación y asesoramiento en distintos foros sociales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1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4000" y="1980720"/>
            <a:ext cx="8820000" cy="39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RED DE CIUDADES Y PUEBLOS LECTORES Y ESCRITORES – RED CPL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EXPOSICIÓN DE POEMAS FOTOGRAFIADO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- “Un poema, una imagen y tu mirada” (1ª versión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- “Con ojos y voz de mujer” (2ª versión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CAMPAÑA POR EL ACERCAMIENTO AL MUNDO DE LA LECTURA Y LA ESCRITURA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. “</a:t>
            </a:r>
            <a:r>
              <a:rPr b="0" i="1" lang="es-ES" sz="2400" spc="-1" strike="noStrike">
                <a:solidFill>
                  <a:srgbClr val="003300"/>
                </a:solidFill>
                <a:latin typeface="Arial"/>
              </a:rPr>
              <a:t>Si no lees, no pasa nada…¡Deja que te pasen cosas!”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86688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PROXIMACIÓN A ALGUNO DE SUS PROGRAMAS…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58" name="Group 12"/>
          <p:cNvGrpSpPr/>
          <p:nvPr/>
        </p:nvGrpSpPr>
        <p:grpSpPr>
          <a:xfrm>
            <a:off x="4788000" y="2349360"/>
            <a:ext cx="3960720" cy="3384720"/>
            <a:chOff x="4788000" y="2349360"/>
            <a:chExt cx="3960720" cy="3384720"/>
          </a:xfrm>
        </p:grpSpPr>
        <p:sp>
          <p:nvSpPr>
            <p:cNvPr id="159" name="AutoShape 6"/>
            <p:cNvSpPr/>
            <p:nvPr/>
          </p:nvSpPr>
          <p:spPr>
            <a:xfrm>
              <a:off x="4788000" y="234936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244" h="21600">
                  <a:moveTo>
                    <a:pt x="8116" y="3794"/>
                  </a:moveTo>
                  <a:lnTo>
                    <a:pt x="22129" y="10800"/>
                  </a:lnTo>
                  <a:lnTo>
                    <a:pt x="8116" y="17806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0" name="AutoShape 7"/>
            <p:cNvSpPr/>
            <p:nvPr/>
          </p:nvSpPr>
          <p:spPr>
            <a:xfrm>
              <a:off x="8244000" y="364500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244" h="21600">
                  <a:moveTo>
                    <a:pt x="8116" y="3794"/>
                  </a:moveTo>
                  <a:lnTo>
                    <a:pt x="22129" y="10800"/>
                  </a:lnTo>
                  <a:lnTo>
                    <a:pt x="8116" y="17806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1" name="AutoShape 8"/>
            <p:cNvSpPr/>
            <p:nvPr/>
          </p:nvSpPr>
          <p:spPr>
            <a:xfrm>
              <a:off x="6732720" y="393372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244" h="21600">
                  <a:moveTo>
                    <a:pt x="8116" y="3794"/>
                  </a:moveTo>
                  <a:lnTo>
                    <a:pt x="22129" y="10800"/>
                  </a:lnTo>
                  <a:lnTo>
                    <a:pt x="8116" y="17806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2" name="AutoShape 9"/>
            <p:cNvSpPr/>
            <p:nvPr/>
          </p:nvSpPr>
          <p:spPr>
            <a:xfrm>
              <a:off x="8101080" y="537372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244" h="21600">
                  <a:moveTo>
                    <a:pt x="8116" y="3794"/>
                  </a:moveTo>
                  <a:lnTo>
                    <a:pt x="22129" y="10800"/>
                  </a:lnTo>
                  <a:lnTo>
                    <a:pt x="8116" y="17806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5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507520" cy="13716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D DE CIUDADES Y PUEBLOS LECTORES Y ESCRITORES –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RED CPLE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64" name="Picture 5" descr="http://asociacionaele.org/aele/images/logos%20de%20la%20red%20cple.jpg"/>
          <p:cNvPicPr/>
          <p:nvPr/>
        </p:nvPicPr>
        <p:blipFill>
          <a:blip r:embed="rId1"/>
          <a:stretch/>
        </p:blipFill>
        <p:spPr>
          <a:xfrm>
            <a:off x="2050920" y="1916280"/>
            <a:ext cx="5042160" cy="12952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6"/>
          <p:cNvSpPr/>
          <p:nvPr/>
        </p:nvSpPr>
        <p:spPr>
          <a:xfrm>
            <a:off x="179280" y="3429000"/>
            <a:ext cx="896472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- </a:t>
            </a: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Actuaciones en Red entre lectores y escritores en las Comunidades Autónomas españolas, en íntima relación con el Proyecto Ciudades Lectoras –CLs- que se desarrolla en América Latina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- Creación de </a:t>
            </a: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RUTAS LECTORAS Y ESCRITORAS (</a:t>
            </a:r>
            <a:r>
              <a:rPr b="1" i="1" lang="es-ES" sz="1800" spc="-1" strike="noStrike">
                <a:solidFill>
                  <a:srgbClr val="003300"/>
                </a:solidFill>
                <a:latin typeface="Arial"/>
              </a:rPr>
              <a:t>intra</a:t>
            </a: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 e </a:t>
            </a:r>
            <a:r>
              <a:rPr b="1" i="1" lang="es-ES" sz="1800" spc="-1" strike="noStrike">
                <a:solidFill>
                  <a:srgbClr val="003300"/>
                </a:solidFill>
                <a:latin typeface="Arial"/>
              </a:rPr>
              <a:t>inter</a:t>
            </a: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 ciudades y pueblos)</a:t>
            </a: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1) … en un centro educativo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2) … entre varios centros educativos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3) … entre centros educativos y la biblioteca de la zona.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4) … entre las distintas instituciones sociales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- www.asociacionaele.org/red-cple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507520" cy="13716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XPOSICIÓN DE POEMAS FOTOGRAFIADOS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“UN POEMA, UNA IMAGEN Y TU MIRADA”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250920" y="4405320"/>
            <a:ext cx="8642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just"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Contribuir, a través de un </a:t>
            </a:r>
            <a:r>
              <a:rPr b="1" lang="es-ES" sz="2000" spc="-1" strike="noStrike">
                <a:solidFill>
                  <a:srgbClr val="003300"/>
                </a:solidFill>
                <a:latin typeface="Arial"/>
              </a:rPr>
              <a:t>paseo intertextual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 de la mano de distintos lenguajes, a la formación de niños y jóvenes lectores y escritores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177840" indent="-177840" algn="just"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00"/>
                </a:solidFill>
                <a:latin typeface="Arial"/>
              </a:rPr>
              <a:t>Estimular la práctica de la lectura y la escritura en todas las edades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, el acercamiento al mundo de la poesía y de la fotografía, la creación literaria y la participación en escenarios atractivos para leer y escribir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68" name="Picture 5" descr="http://asociacionaele.org/aele/images/portada%20expo.jpg"/>
          <p:cNvPicPr/>
          <p:nvPr/>
        </p:nvPicPr>
        <p:blipFill>
          <a:blip r:embed="rId1"/>
          <a:stretch/>
        </p:blipFill>
        <p:spPr>
          <a:xfrm>
            <a:off x="3780000" y="2060640"/>
            <a:ext cx="1514160" cy="208908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6"/>
          <p:cNvSpPr/>
          <p:nvPr/>
        </p:nvSpPr>
        <p:spPr>
          <a:xfrm>
            <a:off x="395280" y="382428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00"/>
                </a:solidFill>
                <a:latin typeface="Arial"/>
              </a:rPr>
              <a:t>OBJETIVOS: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507520" cy="13716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XPOSICIÓN IBEROAMERICANA DE POEMAS Y FOTOGRAFÍAS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“CON OJOS Y VOZ DE MUJER”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2124000" y="1989000"/>
            <a:ext cx="4964040" cy="14385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7"/>
          <p:cNvSpPr/>
          <p:nvPr/>
        </p:nvSpPr>
        <p:spPr>
          <a:xfrm>
            <a:off x="250920" y="3860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- La AELE, junto a </a:t>
            </a: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instituciones de otros 10 países iberoamericanos </a:t>
            </a: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-</a:t>
            </a: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Argentina, Bolivia, Costa Rica, Guatemala, México, Nicaragua, Panamá, Perú, Portugal y Uruguay-, </a:t>
            </a: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ha generado esta Exposición con el objetivo de promover prácticas de lectura y de escritura en las generaciones más jóvenes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250920" y="5229360"/>
            <a:ext cx="88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- La Exposición viaja por distintas </a:t>
            </a: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rutas lectoras y escritoras </a:t>
            </a: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con la intención de encontrar las voces de la infancia y la adolescencia e invitarlas a compartir sus palabras en la trama inagotable de los distintos lenguajes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351640" cy="151272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MPAÑA POR EL ACERCAMIENTO AL MUNDO DE LA LECTURA Y LA ESCRITURA </a:t>
            </a:r>
            <a:br>
              <a:rPr sz="2400"/>
            </a:b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Si no lees, no pasa nada…¡Deja que te pasen cosas!</a:t>
            </a:r>
            <a:br>
              <a:rPr sz="2400"/>
            </a:b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75" name="Picture 4" descr="http://www.asociacionaele.org/aele/images/invitacion.jpg"/>
          <p:cNvPicPr/>
          <p:nvPr/>
        </p:nvPicPr>
        <p:blipFill>
          <a:blip r:embed="rId1"/>
          <a:stretch/>
        </p:blipFill>
        <p:spPr>
          <a:xfrm>
            <a:off x="2916360" y="2276640"/>
            <a:ext cx="3600360" cy="16808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395280" y="4292640"/>
            <a:ext cx="835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Cápsulas de video con los </a:t>
            </a: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testimonios</a:t>
            </a: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 de personas del mundo del cine, el deporte, la televisión, la radio, la música, la política, el teatro, la cultura, la justicia… de nuestra sociedad, invitadas a compartir algún momento memorable de lectura o de escritura que, de alguna forma, han influenciado su construcción de la realidad.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7" name="AutoShape 7"/>
          <p:cNvSpPr/>
          <p:nvPr/>
        </p:nvSpPr>
        <p:spPr>
          <a:xfrm rot="5400000">
            <a:off x="1223280" y="5625360"/>
            <a:ext cx="504720" cy="1008000"/>
          </a:xfrm>
          <a:prstGeom prst="pie">
            <a:avLst/>
          </a:prstGeom>
          <a:gradFill rotWithShape="0">
            <a:gsLst>
              <a:gs pos="0">
                <a:srgbClr val="336600"/>
              </a:gs>
              <a:gs pos="100000">
                <a:srgbClr val="99cc00"/>
              </a:gs>
            </a:gsLst>
            <a:lin ang="1620000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2340000" y="601488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Desarrollo de talleres de lectura y escritura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2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Arial"/>
              </a:rPr>
              <a:t>Muchas gracias por la atenció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Arial"/>
              </a:rPr>
              <a:t>aele@asociacionaele.org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3780000" y="3141720"/>
            <a:ext cx="1584000" cy="10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SOCIACIÓN ESPAÑOLA DE LECTURA Y ESCRITURA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3851280" y="1844640"/>
            <a:ext cx="1368360" cy="8953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468360" y="2924280"/>
            <a:ext cx="8136000" cy="237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00"/>
                </a:solidFill>
                <a:latin typeface="Arial"/>
              </a:rPr>
              <a:t>- Filial Nacional de la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3300"/>
                </a:solidFill>
                <a:latin typeface="Arial"/>
              </a:rPr>
              <a:t>IRA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, Asociación Internacional de Lectura (</a:t>
            </a:r>
            <a:r>
              <a:rPr b="0" lang="es-ES" sz="2000" spc="-1" strike="noStrike" u="sng">
                <a:solidFill>
                  <a:srgbClr val="333300"/>
                </a:solidFill>
                <a:uFillTx/>
                <a:latin typeface="Arial"/>
                <a:hlinkClick r:id="rId2"/>
              </a:rPr>
              <a:t>www.reading.org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- Miembro de </a:t>
            </a:r>
            <a:r>
              <a:rPr b="1" lang="es-ES" sz="2000" spc="-1" strike="noStrike">
                <a:solidFill>
                  <a:srgbClr val="003300"/>
                </a:solidFill>
                <a:latin typeface="Arial"/>
              </a:rPr>
              <a:t>IDEC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, Comité Europeo de la Asociación Internacional de Lectura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- Socia fundadora de la Federación de Asociaciones Europeas de Lectura </a:t>
            </a:r>
            <a:r>
              <a:rPr b="1" lang="es-ES" sz="2000" spc="-1" strike="noStrike">
                <a:solidFill>
                  <a:srgbClr val="003300"/>
                </a:solidFill>
                <a:latin typeface="Arial"/>
              </a:rPr>
              <a:t>(FELA)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468360" y="5445000"/>
            <a:ext cx="597672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3300"/>
                </a:solidFill>
                <a:latin typeface="Arial"/>
              </a:rPr>
              <a:t>DATOS DE CONTACTO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Página </a:t>
            </a:r>
            <a:r>
              <a:rPr b="0" i="1" lang="es-ES" sz="1800" spc="-1" strike="noStrike">
                <a:solidFill>
                  <a:srgbClr val="003300"/>
                </a:solidFill>
                <a:latin typeface="Arial"/>
              </a:rPr>
              <a:t>web</a:t>
            </a: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: </a:t>
            </a:r>
            <a:r>
              <a:rPr b="0" lang="es-ES" sz="1800" spc="-1" strike="noStrike" u="sng">
                <a:solidFill>
                  <a:srgbClr val="333300"/>
                </a:solidFill>
                <a:uFillTx/>
                <a:latin typeface="Arial"/>
                <a:hlinkClick r:id="rId3"/>
              </a:rPr>
              <a:t>www.asociacion</a:t>
            </a:r>
            <a:r>
              <a:rPr b="0" lang="es-ES" sz="1800" spc="-1" strike="noStrike" u="sng">
                <a:solidFill>
                  <a:srgbClr val="333300"/>
                </a:solidFill>
                <a:uFillTx/>
                <a:latin typeface="Arial"/>
                <a:hlinkClick r:id="rId4"/>
              </a:rPr>
              <a:t>aele</a:t>
            </a:r>
            <a:r>
              <a:rPr b="0" lang="es-ES" sz="1800" spc="-1" strike="noStrike" u="sng">
                <a:solidFill>
                  <a:srgbClr val="333300"/>
                </a:solidFill>
                <a:uFillTx/>
                <a:latin typeface="Arial"/>
                <a:hlinkClick r:id="rId5"/>
              </a:rPr>
              <a:t>.org</a:t>
            </a: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Correo electrónico: </a:t>
            </a:r>
            <a:r>
              <a:rPr b="0" lang="es-ES" sz="1800" spc="-1" strike="noStrike" u="sng">
                <a:solidFill>
                  <a:srgbClr val="333300"/>
                </a:solidFill>
                <a:uFillTx/>
                <a:latin typeface="Arial"/>
                <a:hlinkClick r:id="rId6"/>
              </a:rPr>
              <a:t>aele@asociacion</a:t>
            </a:r>
            <a:r>
              <a:rPr b="0" lang="es-ES" sz="1800" spc="-1" strike="noStrike" u="sng">
                <a:solidFill>
                  <a:srgbClr val="333300"/>
                </a:solidFill>
                <a:uFillTx/>
                <a:latin typeface="Arial"/>
                <a:hlinkClick r:id="rId7"/>
              </a:rPr>
              <a:t>aele</a:t>
            </a:r>
            <a:r>
              <a:rPr b="0" lang="es-ES" sz="1800" spc="-1" strike="noStrike" u="sng">
                <a:solidFill>
                  <a:srgbClr val="333300"/>
                </a:solidFill>
                <a:uFillTx/>
                <a:latin typeface="Arial"/>
                <a:hlinkClick r:id="rId8"/>
              </a:rPr>
              <a:t>.org</a:t>
            </a: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9280" y="1557000"/>
            <a:ext cx="820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00"/>
                </a:solidFill>
                <a:latin typeface="Arial"/>
              </a:rPr>
              <a:t>La Asociación Española de Lectura y Escritura (AELE)</a:t>
            </a:r>
            <a:r>
              <a:rPr b="0" lang="es-ES" sz="3200" spc="-1" strike="noStrike">
                <a:solidFill>
                  <a:srgbClr val="003300"/>
                </a:solidFill>
                <a:latin typeface="Arial"/>
              </a:rPr>
              <a:t> retroalimenta sus programas de actuación estableciendo interrelación entre sus estudios de campo y los desarrollados por el </a:t>
            </a:r>
            <a:r>
              <a:rPr b="1" lang="es-ES" sz="3200" spc="-1" strike="noStrike">
                <a:solidFill>
                  <a:srgbClr val="003300"/>
                </a:solidFill>
                <a:latin typeface="Arial"/>
              </a:rPr>
              <a:t>Grupo de Investigación “Fracaso escolar y competencias comunicativas” (UCM)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7451640" y="522360"/>
            <a:ext cx="1297080" cy="847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6840" y="2341080"/>
            <a:ext cx="843588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Arial"/>
              </a:rPr>
              <a:t>Es difícil ser competente en el uso de un lenguaje sin participar en auténticas prácticas de lectura, de escritura y de conversación en dicho lenguaje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468360" y="620640"/>
            <a:ext cx="8424720" cy="15570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este proceso de intercambio, ha surgido una amplia gama de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DEAS-EJE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que han retroalimentado los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OGRAMA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 actuación de la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EL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n la población infantil y juvenil, entre ellas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25" name="Group 8"/>
          <p:cNvGrpSpPr/>
          <p:nvPr/>
        </p:nvGrpSpPr>
        <p:grpSpPr>
          <a:xfrm>
            <a:off x="611280" y="4437000"/>
            <a:ext cx="8281800" cy="1947960"/>
            <a:chOff x="611280" y="4437000"/>
            <a:chExt cx="8281800" cy="1947960"/>
          </a:xfrm>
        </p:grpSpPr>
        <p:sp>
          <p:nvSpPr>
            <p:cNvPr id="126" name="Text Box 6"/>
            <p:cNvSpPr/>
            <p:nvPr/>
          </p:nvSpPr>
          <p:spPr>
            <a:xfrm>
              <a:off x="611280" y="5559480"/>
              <a:ext cx="8281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3300"/>
                  </a:solidFill>
                  <a:latin typeface="Arial"/>
                </a:rPr>
                <a:t>En las aulas, ¿se organizan estas prácticas en cantidad y variedad suficiente?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7" name="AutoShape 7"/>
            <p:cNvSpPr/>
            <p:nvPr/>
          </p:nvSpPr>
          <p:spPr>
            <a:xfrm rot="5400000">
              <a:off x="4211280" y="4581360"/>
              <a:ext cx="1081080" cy="792360"/>
            </a:xfrm>
            <a:prstGeom prst="pie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336600"/>
                </a:gs>
              </a:gsLst>
              <a:lin ang="0"/>
            </a:gra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 algn="just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La planificación enunciativa de un texto supone definir  la responsabilidad de quien enuncia en distintos aspectos del lenguaje. De modo que, </a:t>
            </a:r>
            <a:r>
              <a:rPr b="1" lang="es-ES" sz="2800" spc="-1" strike="noStrike">
                <a:solidFill>
                  <a:srgbClr val="003300"/>
                </a:solidFill>
                <a:latin typeface="Arial"/>
              </a:rPr>
              <a:t>enfrentarse a la producción escrita con autonomía incrementa la curiosidad por indagar en el lenguaje escrito</a:t>
            </a: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 (incluso, es un camino hacia la lectura, a la que tanto se convoca independientemente de la práctica de la escritura).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29" name="Group 6"/>
          <p:cNvGrpSpPr/>
          <p:nvPr/>
        </p:nvGrpSpPr>
        <p:grpSpPr>
          <a:xfrm>
            <a:off x="826920" y="4221000"/>
            <a:ext cx="7921800" cy="2194200"/>
            <a:chOff x="826920" y="4221000"/>
            <a:chExt cx="7921800" cy="2194200"/>
          </a:xfrm>
        </p:grpSpPr>
        <p:sp>
          <p:nvSpPr>
            <p:cNvPr id="130" name="Text Box 4"/>
            <p:cNvSpPr/>
            <p:nvPr/>
          </p:nvSpPr>
          <p:spPr>
            <a:xfrm>
              <a:off x="826920" y="5589720"/>
              <a:ext cx="7921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3300"/>
                  </a:solidFill>
                  <a:latin typeface="Arial"/>
                </a:rPr>
                <a:t>En las aulas, ¿se organizan suficientes propuestas de escritura en contextos comunicativos?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31" name="AutoShape 5"/>
            <p:cNvSpPr/>
            <p:nvPr/>
          </p:nvSpPr>
          <p:spPr>
            <a:xfrm rot="5400000">
              <a:off x="4211280" y="4365360"/>
              <a:ext cx="1081080" cy="792360"/>
            </a:xfrm>
            <a:prstGeom prst="pie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336600"/>
                </a:gs>
              </a:gsLst>
              <a:lin ang="0"/>
            </a:gra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6600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El reconocimiento docente de las propias zonas de “analfabetismo”, propicia la identificación de la complejidad que implica aprender un lenguaje (en tiempos, situaciones, géneros textuales, etc.). </a:t>
            </a:r>
            <a:r>
              <a:rPr b="1" lang="es-ES" sz="2800" spc="-1" strike="noStrike">
                <a:solidFill>
                  <a:srgbClr val="003300"/>
                </a:solidFill>
                <a:latin typeface="Arial"/>
              </a:rPr>
              <a:t>El papel del error</a:t>
            </a: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.</a:t>
            </a:r>
            <a:r>
              <a:rPr b="0" lang="es-ES" sz="32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33" name="Group 6"/>
          <p:cNvGrpSpPr/>
          <p:nvPr/>
        </p:nvGrpSpPr>
        <p:grpSpPr>
          <a:xfrm>
            <a:off x="1042920" y="4005360"/>
            <a:ext cx="6985080" cy="2193840"/>
            <a:chOff x="1042920" y="4005360"/>
            <a:chExt cx="6985080" cy="2193840"/>
          </a:xfrm>
        </p:grpSpPr>
        <p:sp>
          <p:nvSpPr>
            <p:cNvPr id="134" name="Text Box 4"/>
            <p:cNvSpPr/>
            <p:nvPr/>
          </p:nvSpPr>
          <p:spPr>
            <a:xfrm>
              <a:off x="1042920" y="5373720"/>
              <a:ext cx="6985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3300"/>
                  </a:solidFill>
                  <a:latin typeface="Arial"/>
                </a:rPr>
                <a:t>¿Qué papel juega el error en los procesos de aprendizaje del lenguaje escrito?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35" name="AutoShape 5"/>
            <p:cNvSpPr/>
            <p:nvPr/>
          </p:nvSpPr>
          <p:spPr>
            <a:xfrm rot="5400000">
              <a:off x="3995640" y="4149720"/>
              <a:ext cx="1081080" cy="792000"/>
            </a:xfrm>
            <a:prstGeom prst="pie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336600"/>
                </a:gs>
              </a:gsLst>
              <a:lin ang="0"/>
            </a:gra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8424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336600"/>
              </a:buClr>
              <a:buSzPct val="7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Arial"/>
              </a:rPr>
              <a:t>Las distintas normas lingüísticas se comprenden e internalizan si se asientan en experiencias comunicativas (orden de la pragmática). </a:t>
            </a:r>
            <a:r>
              <a:rPr b="1" lang="es-ES" sz="3200" spc="-1" strike="noStrike">
                <a:solidFill>
                  <a:srgbClr val="003300"/>
                </a:solidFill>
                <a:latin typeface="Arial"/>
              </a:rPr>
              <a:t>El papel de las trasposiciones didácticas: experiencia, conocimiento y conceptualización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37" name="Group 6"/>
          <p:cNvGrpSpPr/>
          <p:nvPr/>
        </p:nvGrpSpPr>
        <p:grpSpPr>
          <a:xfrm>
            <a:off x="468360" y="4292640"/>
            <a:ext cx="8351640" cy="2049480"/>
            <a:chOff x="468360" y="4292640"/>
            <a:chExt cx="8351640" cy="2049480"/>
          </a:xfrm>
        </p:grpSpPr>
        <p:sp>
          <p:nvSpPr>
            <p:cNvPr id="138" name="Text Box 4"/>
            <p:cNvSpPr/>
            <p:nvPr/>
          </p:nvSpPr>
          <p:spPr>
            <a:xfrm>
              <a:off x="468360" y="5516640"/>
              <a:ext cx="835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3300"/>
                  </a:solidFill>
                  <a:latin typeface="Arial"/>
                </a:rPr>
                <a:t>En las aulas, ¿cómo se realiza la trasposición didáctica entre objeto de conocimiento y objeto de enseñanza?</a:t>
              </a:r>
              <a:r>
                <a:rPr b="0" lang="es-ES" sz="18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39" name="AutoShape 5"/>
            <p:cNvSpPr/>
            <p:nvPr/>
          </p:nvSpPr>
          <p:spPr>
            <a:xfrm rot="5400000">
              <a:off x="4140000" y="4437000"/>
              <a:ext cx="1081080" cy="792000"/>
            </a:xfrm>
            <a:prstGeom prst="pie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336600"/>
                </a:gs>
              </a:gsLst>
              <a:lin ang="0"/>
            </a:gra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95280" y="9806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336600"/>
              </a:buClr>
              <a:buSzPct val="7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Arial"/>
              </a:rPr>
              <a:t>La </a:t>
            </a:r>
            <a:r>
              <a:rPr b="1" lang="es-ES" sz="3200" spc="-1" strike="noStrike">
                <a:solidFill>
                  <a:srgbClr val="003300"/>
                </a:solidFill>
                <a:latin typeface="Arial"/>
              </a:rPr>
              <a:t>tecnología de la escritura</a:t>
            </a:r>
            <a:r>
              <a:rPr b="0" lang="es-ES" sz="3200" spc="-1" strike="noStrike">
                <a:solidFill>
                  <a:srgbClr val="003300"/>
                </a:solidFill>
                <a:latin typeface="Arial"/>
              </a:rPr>
              <a:t> ocupar un lugar importante en el aprendizaje del lenguaje. No, un lugar prioritario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41" name="Group 6"/>
          <p:cNvGrpSpPr/>
          <p:nvPr/>
        </p:nvGrpSpPr>
        <p:grpSpPr>
          <a:xfrm>
            <a:off x="971640" y="3429000"/>
            <a:ext cx="7272360" cy="2265480"/>
            <a:chOff x="971640" y="3429000"/>
            <a:chExt cx="7272360" cy="2265480"/>
          </a:xfrm>
        </p:grpSpPr>
        <p:sp>
          <p:nvSpPr>
            <p:cNvPr id="142" name="Text Box 4"/>
            <p:cNvSpPr/>
            <p:nvPr/>
          </p:nvSpPr>
          <p:spPr>
            <a:xfrm>
              <a:off x="971640" y="4869000"/>
              <a:ext cx="727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3300"/>
                  </a:solidFill>
                  <a:latin typeface="Arial"/>
                </a:rPr>
                <a:t>En la enseñanza del lenguaje escrito, ¿qué papel tiene asignada esta tecnología? 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43" name="AutoShape 5"/>
            <p:cNvSpPr/>
            <p:nvPr/>
          </p:nvSpPr>
          <p:spPr>
            <a:xfrm rot="5400000">
              <a:off x="3995640" y="3573360"/>
              <a:ext cx="1081080" cy="792000"/>
            </a:xfrm>
            <a:prstGeom prst="pie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336600"/>
                </a:gs>
              </a:gsLst>
              <a:lin ang="0"/>
            </a:gra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29680" cy="54720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UESTIONES TODAS que no PROPICIAN la INCLUSIÓN de un ALUMNADO DIVERSO…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¿De qué tipo de DIVERSIDAD hablamos? 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¡¡NECESIDAD de INNOVAR!!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UNTO DE MIRA: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l desarrollo de COMPETENCIAS en COMUNICACIÓN LINGÜÍSTICA desde la perspectiva de la INCLUSIÓN</a:t>
            </a:r>
            <a:br>
              <a:rPr sz="2800"/>
            </a:b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3T14:24:23Z</dcterms:created>
  <dc:creator>aele</dc:creator>
  <dc:description/>
  <dc:language>en-US</dc:language>
  <cp:lastModifiedBy>ESTELA DANGELO</cp:lastModifiedBy>
  <dcterms:modified xsi:type="dcterms:W3CDTF">2009-05-05T05:26:49Z</dcterms:modified>
  <cp:revision>40</cp:revision>
  <dc:subject/>
  <dc:title>Diapositiva 1</dc:title>
</cp:coreProperties>
</file>